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7E2-7A8B-4802-AAF1-67FF1DCE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FDF-9574-49A8-8578-F9615DD5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236-E6BA-414C-9D44-49B021AF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C9A-57B4-43F2-B05E-ABE93D31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A21-6807-4FA5-8634-C634A951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1F6-EE2B-4FBA-9932-C6D3E3FA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CEE-291E-4468-9AAA-DAE39F6A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C69-0E5D-481B-A049-26C62842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3DF-584A-4272-8146-B36D7C01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22A-FD7E-4D51-B6DA-63611740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287-290E-4D7F-9204-E895E2CC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1A1-2C77-4CF1-BD63-AB26B473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1738-AC4F-4934-BECC-0A3F6EB56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ball c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rae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Gender have an effect on how you can catch a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boys will catch better because football is a guy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o ge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ark out 10 20 30 yard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do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cor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do power poi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y- 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el -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ane - 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i - missed 1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hael -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ure -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ypothesis was correct the boys caught more than the girls as you could see all the boys caught there's but one girl misse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y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he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9:52:19Z</dcterms:created>
  <dc:creator>USD376</dc:creator>
  <dc:description/>
  <dc:language>en-US</dc:language>
  <cp:lastModifiedBy>STERLING  USD376</cp:lastModifiedBy>
  <dcterms:modified xsi:type="dcterms:W3CDTF">2010-02-02T16:43:34Z</dcterms:modified>
  <cp:revision>4</cp:revision>
  <dc:subject/>
  <dc:title>Football catch</dc:title>
</cp:coreProperties>
</file>